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677A-14BB-4460-B1D2-5278578E7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0024-E8BA-4745-AE5A-FB87674F9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BF7E-9657-45CA-98CE-50E34F028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A42B-6D92-4323-9DEC-87258BE3B7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8F0-D70C-4F81-BADE-8636C75D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088-EFBC-4C50-AB5F-A54DE8F8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8B7-42BC-4B98-BDFB-1531B860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4FE-A129-446B-B705-9684A9C0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12D-529D-4765-A3E1-E30996B9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456-8722-4A20-A722-FFFA649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F4B-CBCB-4A45-8622-2056F8E2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201-C246-47FB-AA09-F03664BE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434-4928-473B-9FFC-C733D44C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24F-217D-4C9D-88E4-E90DAA5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BDE-53A8-4C43-ABFF-83D64C1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C045-9318-4849-9BD3-878640FB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DBD-6C3F-40B3-B1EC-BD4E2194D3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B131-147B-4A9A-AB23-5A12E7CDB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67080" y="1617840"/>
            <a:ext cx="3886200" cy="3308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1668600"/>
            <a:ext cx="3733560" cy="317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92920" y="3107160"/>
            <a:ext cx="6909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8 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175280" y="26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0920" y="685800"/>
            <a:ext cx="3328920" cy="5280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169280" y="1726920"/>
            <a:ext cx="514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B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52480" y="1176480"/>
            <a:ext cx="510552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3520" y="1914120"/>
            <a:ext cx="65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D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82640" y="609480"/>
            <a:ext cx="4106880" cy="6019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11960" y="2504520"/>
            <a:ext cx="576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S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1106640"/>
            <a:ext cx="6434280" cy="411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447920" y="22860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761760" y="1827720"/>
            <a:ext cx="7238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H 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09896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83808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008000"/>
            <a:ext cx="6553440" cy="396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64280" y="1883160"/>
            <a:ext cx="7872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What is R 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3600" y="380880"/>
            <a:ext cx="457992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6880" y="1980720"/>
            <a:ext cx="731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What is red 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960480"/>
            <a:ext cx="6019920" cy="526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48480" y="1647360"/>
            <a:ext cx="840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yellow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1474920"/>
            <a:ext cx="5943600" cy="4232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068840" y="2057040"/>
            <a:ext cx="718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blue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76520" y="380880"/>
            <a:ext cx="4844880" cy="6002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145160" y="2133360"/>
            <a:ext cx="709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black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1784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092680" y="2711160"/>
            <a:ext cx="495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81080" y="898560"/>
            <a:ext cx="5410440" cy="485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4800" y="2514240"/>
            <a:ext cx="715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 is green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14600" y="700200"/>
            <a:ext cx="4800600" cy="477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066320" y="2666160"/>
            <a:ext cx="72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circl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181840" cy="50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88160" y="2409120"/>
            <a:ext cx="763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squar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105520" cy="44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830880" y="2332800"/>
            <a:ext cx="808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triangl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81680" cy="210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2240" y="3047040"/>
            <a:ext cx="78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rectangle 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29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749680" y="838080"/>
            <a:ext cx="3958920" cy="4800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62120" y="30481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841320" y="2665800"/>
            <a:ext cx="76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at is a diamond 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5244840" cy="557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140840" y="1980360"/>
            <a:ext cx="650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dog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62320" y="762120"/>
            <a:ext cx="4671720" cy="556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12960" y="3082320"/>
            <a:ext cx="673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bear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371600" y="736560"/>
            <a:ext cx="6477120" cy="5321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71800" y="2958840"/>
            <a:ext cx="739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What is an elephant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004000" cy="222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78000" y="3082320"/>
            <a:ext cx="67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n ant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3760" y="267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370880" y="2284920"/>
            <a:ext cx="65372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3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996840"/>
            <a:ext cx="7162920" cy="507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84000" y="2513880"/>
            <a:ext cx="740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What is a whale 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384640" cy="164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657600" y="3581280"/>
            <a:ext cx="2384280" cy="164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2307960" cy="159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267080" y="923760"/>
            <a:ext cx="2667240" cy="1841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066680" y="914400"/>
            <a:ext cx="2667240" cy="18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28800" y="202356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 is 5 ?</a:t>
            </a: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666880" cy="203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19920" y="2819520"/>
            <a:ext cx="2743200" cy="2090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143000" y="4876920"/>
            <a:ext cx="2286000" cy="1743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352680" y="2743200"/>
            <a:ext cx="2667240" cy="2033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33520" y="380880"/>
            <a:ext cx="2666880" cy="203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3352680" y="380880"/>
            <a:ext cx="2743200" cy="209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172200" y="533520"/>
            <a:ext cx="2633760" cy="2008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40640" y="2726280"/>
            <a:ext cx="6909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imes New Roman"/>
              </a:rPr>
              <a:t>What is 7 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Teacher</cp:lastModifiedBy>
  <dcterms:modified xsi:type="dcterms:W3CDTF">2009-10-05T21:52:44Z</dcterms:modified>
  <cp:revision>74</cp:revision>
  <dc:subject/>
  <dc:title>Blank Jeopardy</dc:title>
</cp:coreProperties>
</file>